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6A64-1EFF-4BF6-851A-4F85837C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8E9-7307-411A-98AC-70AA40B1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1F2F-D4E2-4A5D-AE61-A824E3A1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7ECD-4EB4-4DBD-B6A7-F309F364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483C-42B7-4908-AA77-C3D00911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075A-C5DC-41DE-BDD8-491392E5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8F3E-A039-408B-A5F7-5DA5EF39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BE04-281D-4B5C-BFBA-243BC7CA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46E9-A3DB-4022-8F86-055F47C3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21C5-6911-4BFC-994C-3A3C0D0F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DEC4-E2C1-4717-AD3F-5D9C9292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A2EA-7921-4E97-8384-850741A6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187E-C915-4410-85F5-A47C3FF92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ng Education Adequatel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Tw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urpose of edu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nd respond the quote on pg.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Bus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¼ Americans is involved in some aspect of education (p.3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iece of data on pages 32-38 resonates with your gr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 vs. Goa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demands of NCLD aligned with the purposes of edu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istory of public education in the US has been one of growth and expans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nd discuss with a partner one of these changes on pgs. 41 - 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quences of Not Education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problems of not educating people in the U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with the group a statistic about this problem that you found most shoc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to Grea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im Coll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some companies make the leap . . . And others don’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access instructor-provide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ng Education Equitab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Th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merican education “equal” or “equitable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“democratic principles” of American edu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urban and surbarban schools funded?  Is it equ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ng Education Equitab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Th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nd share findings on the topic of equity (children, school level, taxpayers) on pages 64-7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problems and ramifications involved in improving school finance formulas in order to provide greater equity for taxpa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s of Revenu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F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the key terms on page 143 – assignmen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public schools fun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Project: How are schools funded in New York St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14:46:41Z</dcterms:created>
  <dc:creator>North Rockland High School</dc:creator>
  <dc:description/>
  <dc:language>en-US</dc:language>
  <cp:lastModifiedBy>North Rockland High School</cp:lastModifiedBy>
  <dcterms:modified xsi:type="dcterms:W3CDTF">2008-06-23T16:13:20Z</dcterms:modified>
  <cp:revision>2</cp:revision>
  <dc:subject/>
  <dc:title>Financing Education Adequately  Chapter Two</dc:title>
</cp:coreProperties>
</file>